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0.wmf" ContentType="image/x-wmf"/>
  <Override PartName="/ppt/media/image11.png" ContentType="image/png"/>
  <Override PartName="/ppt/media/image1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Num" idx="40"/>
          </p:nvPr>
        </p:nvSpPr>
        <p:spPr>
          <a:xfrm>
            <a:off x="6469200" y="9495720"/>
            <a:ext cx="2556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EA404DE-32FC-4722-8437-B0FA71393751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ldImg"/>
          </p:nvPr>
        </p:nvSpPr>
        <p:spPr>
          <a:xfrm>
            <a:off x="-1741680" y="318600"/>
            <a:ext cx="11171160" cy="8379000"/>
          </a:xfrm>
          <a:prstGeom prst="rect">
            <a:avLst/>
          </a:prstGeom>
          <a:noFill/>
          <a:ln w="38160">
            <a:solidFill>
              <a:srgbClr val="00000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body"/>
          </p:nvPr>
        </p:nvSpPr>
        <p:spPr>
          <a:xfrm>
            <a:off x="56880" y="271440"/>
            <a:ext cx="8492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56880" y="9343440"/>
            <a:ext cx="571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aua_vorlagen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itel/Logo +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D-Far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6880" y="271440"/>
            <a:ext cx="8492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tzte Se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D935-45B7-4D18-9EB5-CB115FBD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C99-567C-4A1C-B9D8-64FC5B2E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986AF-3B82-44C8-920D-A2ED2868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A64CE-B733-4F78-9056-10484C98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19A8A-A611-4E1B-98FE-191E0191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32EED-3ED3-4D8C-9340-4B2D7C82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FE8B3-757F-400D-90B6-36CCF6D5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D0704-84B8-4433-856E-49D8EDF3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0F2C6-5DBF-45AE-BC2C-5A883EDA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B9153-72A0-42C5-BF9E-AD5CC786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95B54-B809-4597-9213-C8B3F4C6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B21FC-124B-4FFA-993C-FBBAA56E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05D-1E27-4EBE-BA43-E538BCEE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7CFE3-2743-4A75-B3FE-8DD30471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A1F0C-5F7D-4BA7-8052-8870265E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6E80D-0F54-44E9-955F-82E08C14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700BB-6EE0-41E8-A3AA-426DF64D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B19F7-CB70-463B-A77C-F1C96179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BBB22-79AE-4EC6-9FF3-AB3834FD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8BC9A-02BC-4E00-AD0B-8696A965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A0175-2460-44D3-88BA-0723B5DE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BD749-B4D1-42FA-A396-0F60D4CE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21628-2EE5-4BB8-B2B2-ED6D0437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52B-BD84-47F4-8426-FD82F756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01540-5E6A-4B7D-889E-44AED819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15D23-C5E9-45B7-933E-CD64955C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BD6A4-CB33-4EF6-92CD-EAB8D08E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2233F-7100-42CF-A285-65EB89E6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A1235-71FA-4D56-A473-D42B1A33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202AF-9C80-474E-8B8D-8A2C3199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FC890-1CBA-4510-8B51-5AC9E5DD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C7840-B0FB-4F35-8561-A3B5E5BA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E6540-A008-4DCC-9742-D7E23C62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B44D1-1B36-4694-A7C5-FDE941D6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6990-9988-4F43-9697-DC39E5E9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F0F75-DB43-4857-A7F1-7C378FB9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21E7C-BD66-486E-A7B9-63603B46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20548-F4DD-4EBA-938C-08CD0BD8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93CB9-A287-4B1D-883F-62F42E58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B0F8B-E7E5-47F2-A85A-500633D6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386F9-B83B-42A9-B0A3-8F950520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815C2-3CC7-4DC2-9615-8F27095E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8B884-4485-4BB1-8B76-FB7E8E95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69D7B-D396-4D52-B5BE-D93A4DD5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1F751-F307-47DA-989E-BFB4797E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12A7-5ADD-4AB7-AB10-F680ED01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1DB7C-5DDA-4269-B00F-F7C9CF99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C76C4-D2A0-4D3E-8396-0C737680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B0117-EE65-4FDD-B68B-932B6C5C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2929F-DC26-4672-B12A-D5C38B9E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F060E-8694-45FB-81A6-E7A4E6EC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87A13-8187-40E8-A374-3075223A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0CE4A-6527-4D86-8C67-5D1FD4A0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4F940-CFAE-4D50-8037-8FA473E5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F3D0F-5508-4351-B089-AEEBA267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4586FC-4497-49A7-93E3-22CC8A07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D3CF-C3EE-4D71-8EA8-05A539C4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D50EF-419D-4522-A115-D35E5015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6B3EB-4A0C-41D6-880A-2FBBC1BC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984B4-E1BB-4BD9-99AB-9CECF1F7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8BDF9-C307-44DA-A3D3-36732BB4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51CE61-30CA-4E31-8D66-6AB6B795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C7435-66C1-48C2-8BBD-F1329DEB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4DD9E-61B5-4A55-A069-625B9D96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09DA-506C-44EB-8AC9-AF99429F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AB51-306C-4847-B365-4CA72C42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62E2-0CFF-4F9D-9628-243C8AD1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4CF7-63D3-4A0C-A0FE-D11F3FFA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6C0-5882-4248-A1F7-01A0DB10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7E0A-0678-449A-BF6A-8ADDABEE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8832-E537-4176-9A28-0FBC9C39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1394-C6C4-4C33-8547-2707F1DB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2BC0-0FBA-46DA-B25F-90C1B778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449D-CBFE-434F-A9D7-CAB3CB82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7E643-0C6E-4414-834F-BD9F3AF0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9C578-7107-4A2B-BEFA-BC584819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8D4E2-4EC6-445F-BC55-4EE804D3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02A8C-37FA-430C-ACBB-3ABA7CE1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AC16C-2264-4310-A218-4B0A1E0A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CA22-7A07-4BAF-B4B2-4E273A5B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C9E24-3D46-464C-8CAD-F716F1C8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ADCE2-4404-4D9E-875B-499B267C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0687E-831B-48FB-924E-B139A527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C4D5A-157A-4DE2-B10C-4A208638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090A8-7FB8-4DCB-8B33-5E7D832D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371EB-681D-408E-A637-DF9B769E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D8A5B-0892-440C-943A-D0BB1047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28149-6CA4-4750-BD12-68A9D3E5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68A2D-A7E6-4D80-BD5A-739B242B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7253C-0977-4188-99B1-AEF71301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66A-37F7-4E5F-BDA9-313AA5D1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CECDF-629B-4E93-8843-CA9325CC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B1E44-7C2A-4BEE-8FD4-C2D33E29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DCDDC-210C-455C-931C-3A55BBB0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11540-6584-4970-BBF6-12FD6376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58529-82B5-49EC-836D-72CA973B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55506-D0BE-45CD-A5EF-6C9CD053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4D706-ABB8-42C2-B4F7-392F467F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7BA7D-779C-4E7A-AFCC-BF99DBC8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65BF2-6087-4787-A3AA-4D4922A7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13E6C-6A36-4265-B05B-D834C09D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D49-0E30-4305-BE52-D4604905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59008-15FD-4395-A497-A68B46AA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ED0B2-C14A-4AAD-9EC7-FA5E5A2D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F3A9D-B695-4BC2-91AA-ADDBDD99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44C82-EB78-4793-95DD-251C97BB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0C629-C99D-4136-816C-927046D2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FFAD5-0588-4048-8E19-8D38B285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5150F-743D-4CB1-8F32-20ECFD9D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901A6-2319-4AC1-A56C-71AD7842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D19B8-9C7C-4360-9E1E-CB8B3EF5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72ECC-5E54-429F-AD52-95974358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8ABA-4C7A-47A4-94CC-8996EE14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88B5F-80C2-413F-BF24-70F26FD2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E4796-2021-4712-8534-CB95F0CC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F61F7-A7E9-4D54-9513-044B2793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1223B-D1D3-44E3-BF0A-A6129C8C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B091A-2C0E-4677-8958-E7029867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58A09-F52A-417E-BA15-8399C71F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7E688-DE9D-41A9-B367-9B999F89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4D2FA-5069-4527-87A1-17A0CD51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D6809-C264-423B-99D8-75CB6DCB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77E51-7A0C-40DB-9943-04675AB0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9174-14A9-441C-AC3B-33A2C271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702B6-FF9A-4B46-AE80-15B6ACFA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D6739-F85A-4688-B60C-CCAAD681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69C61-D01D-4909-9B5B-06DB63A3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1AA9B-4F15-4571-B270-FC39568F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28DCC-7214-4CD1-8D9F-52FABCFE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80FE8-77A7-4C8C-ACF0-473AD3C9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81CE8-6BB5-4F8E-B180-5491457C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95677-1358-4627-A86B-1D91E5C2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60893-9AAD-4A47-877F-3AF8DFCA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2ED11-C3FD-4EF9-BF22-7D69C581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BE7-0C6E-4EAA-8407-BDA8520F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091B1-52FA-4C3D-BBE2-505ECA9C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63DC5-C9A4-4208-8615-E6C20C4A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8815A-1C7C-4074-9E1E-9C8BC306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9F5FD-9434-4E2B-9DBF-DFCA3680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B0583-DD1E-4BBC-B501-704303B2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02D7B-0280-49E4-A35C-1BA5A018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55217-CD9D-4311-9F15-DD117428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7177C-0D2F-47C8-8627-9E1FD1A4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9B82F-EE15-48F9-A864-35EA8E9A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F0DC2-4636-4C1A-97F3-A2B7CFB7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21E-3110-4F63-9F99-1324DB56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11FD1-D023-47EC-BBED-870E4F06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8885E-C7EA-4960-B7B6-9A59C3C6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AB524-4520-4144-8188-F0141830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36E97-F70A-45EE-A6A2-15F9914D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8FA6F-031D-4C90-B954-D54504DE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BCC09-14A5-4734-8E47-33E1D32F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58DBF-FC2A-4A6A-8EEC-676C228D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D170B-D059-4C7D-A92A-429CD6DC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13334-7CDD-4B22-B212-A1825289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16F38-5A06-40A7-9917-3B55E918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40FA-04F1-419E-95A9-C3FC6B2F7180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7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7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08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3B37-06F7-40A2-A1EB-3FD7B14E7887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5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5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06F5-1BD8-4666-8C97-614649492137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7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98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922C-71F9-4D98-A968-4FA267A054BB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4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54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4B7B-7A79-4720-8C41-7BF485668DB2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6"/>
          <p:cNvSpPr/>
          <p:nvPr/>
        </p:nvSpPr>
        <p:spPr>
          <a:xfrm>
            <a:off x="0" y="417600"/>
            <a:ext cx="9144000" cy="346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8" name="Picture 19" descr="logo_baua_Title"/>
          <p:cNvPicPr/>
          <p:nvPr/>
        </p:nvPicPr>
        <p:blipFill>
          <a:blip r:embed="rId2">
            <a:lum contrast="6000"/>
          </a:blip>
          <a:srcRect l="4980" t="0" r="3991" b="0"/>
          <a:stretch/>
        </p:blipFill>
        <p:spPr>
          <a:xfrm>
            <a:off x="898560" y="585720"/>
            <a:ext cx="7392960" cy="26035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 rot="16200000">
            <a:off x="-122760" y="5505840"/>
            <a:ext cx="7174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899640" y="6426360"/>
            <a:ext cx="4211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193320" y="654768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F393-A583-4B43-A1E5-6DF2AD954856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9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61CC-FF8A-4C31-AA3B-F81EC2ED70C0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38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9C90-0DEE-4727-A9DD-1261C23D8C47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8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E997-1BDF-499D-B297-E38A529DAB93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228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D14A-4517-4621-97E8-3E90403120D6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7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27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464B-0603-43E5-AF5E-F491E1F7571E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7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318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DAC9-D7E6-48DF-90CD-CAF60A96134A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36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8CC6-FC73-47DC-8E89-BFD4AC953965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AutoShape 6"/>
          <p:cNvSpPr/>
          <p:nvPr/>
        </p:nvSpPr>
        <p:spPr>
          <a:xfrm>
            <a:off x="406440" y="3097080"/>
            <a:ext cx="8307360" cy="3022560"/>
          </a:xfrm>
          <a:prstGeom prst="roundRect">
            <a:avLst>
              <a:gd name="adj" fmla="val 7065"/>
            </a:avLst>
          </a:prstGeom>
          <a:solidFill>
            <a:srgbClr val="587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ffffff"/>
                </a:solidFill>
                <a:latin typeface="Arial"/>
              </a:rPr>
              <a:t>National and EU Activities</a:t>
            </a:r>
            <a:endParaRPr b="0" lang="en-US" sz="42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ffffff"/>
                </a:solidFill>
                <a:latin typeface="Arial"/>
              </a:rPr>
              <a:t>on the Inspection of Chemicals</a:t>
            </a:r>
            <a:endParaRPr b="0" lang="en-US" sz="42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atja vom Hofe, BAuA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209520" y="6392880"/>
            <a:ext cx="7209000" cy="341280"/>
          </a:xfrm>
          <a:prstGeom prst="roundRect">
            <a:avLst>
              <a:gd name="adj" fmla="val 7065"/>
            </a:avLst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Visit of the Ministry of Environment of Brazil – 10 April 2013 – BAuA, Dortmu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6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7C8C-0FBC-4532-9E6D-78E33C0A6931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687240" y="1643040"/>
            <a:ext cx="80679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Reactive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triggered by information received from / through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 Activities in Germa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6"/>
          <p:cNvSpPr/>
          <p:nvPr/>
        </p:nvSpPr>
        <p:spPr>
          <a:xfrm rot="21154200">
            <a:off x="1125360" y="326232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market surveillance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0" name="Text Box 20"/>
          <p:cNvSpPr/>
          <p:nvPr/>
        </p:nvSpPr>
        <p:spPr>
          <a:xfrm>
            <a:off x="2425680" y="4309920"/>
            <a:ext cx="24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other inspection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1" name="Text Box 21"/>
          <p:cNvSpPr/>
          <p:nvPr/>
        </p:nvSpPr>
        <p:spPr>
          <a:xfrm rot="21157800">
            <a:off x="1173240" y="5465880"/>
            <a:ext cx="24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competitor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2" name="Text Box 23"/>
          <p:cNvSpPr/>
          <p:nvPr/>
        </p:nvSpPr>
        <p:spPr>
          <a:xfrm rot="475200">
            <a:off x="6032160" y="4659480"/>
            <a:ext cx="24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accident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3" name="Text Box 24"/>
          <p:cNvSpPr/>
          <p:nvPr/>
        </p:nvSpPr>
        <p:spPr>
          <a:xfrm rot="591600">
            <a:off x="5196960" y="3295800"/>
            <a:ext cx="24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consumer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4911840" y="5510160"/>
            <a:ext cx="24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incident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5" name="Oval 26"/>
          <p:cNvSpPr/>
          <p:nvPr/>
        </p:nvSpPr>
        <p:spPr>
          <a:xfrm rot="21150000">
            <a:off x="809640" y="3035160"/>
            <a:ext cx="3208320" cy="85104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6" name="Oval 27"/>
          <p:cNvSpPr/>
          <p:nvPr/>
        </p:nvSpPr>
        <p:spPr>
          <a:xfrm rot="618000">
            <a:off x="4820760" y="3053880"/>
            <a:ext cx="3208320" cy="85104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7" name="Oval 28"/>
          <p:cNvSpPr/>
          <p:nvPr/>
        </p:nvSpPr>
        <p:spPr>
          <a:xfrm rot="487800">
            <a:off x="5648400" y="4432320"/>
            <a:ext cx="3208320" cy="85104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8" name="Oval 29"/>
          <p:cNvSpPr/>
          <p:nvPr/>
        </p:nvSpPr>
        <p:spPr>
          <a:xfrm rot="21150000">
            <a:off x="816120" y="5214960"/>
            <a:ext cx="3208320" cy="85104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9" name="Oval 30"/>
          <p:cNvSpPr/>
          <p:nvPr/>
        </p:nvSpPr>
        <p:spPr>
          <a:xfrm>
            <a:off x="1719360" y="4130640"/>
            <a:ext cx="3208320" cy="851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50" name="Oval 31"/>
          <p:cNvSpPr/>
          <p:nvPr/>
        </p:nvSpPr>
        <p:spPr>
          <a:xfrm>
            <a:off x="1951200" y="4048200"/>
            <a:ext cx="3208320" cy="85068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51" name="Oval 32"/>
          <p:cNvSpPr/>
          <p:nvPr/>
        </p:nvSpPr>
        <p:spPr>
          <a:xfrm>
            <a:off x="4500720" y="5261040"/>
            <a:ext cx="3208320" cy="85068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53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F634-F6EE-4C1B-9B57-841C2006A249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584280" y="1743120"/>
            <a:ext cx="75978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Tools of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Information and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guidance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for dutyholder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Administrative interven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companies are often willing to collaborate with 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  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nforcement authoriti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common goal: registrants’ compliance !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in cases of non-compliance: administrative order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33880" y="454320"/>
            <a:ext cx="80748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 Activities in Germa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290" descr=""/>
          <p:cNvPicPr/>
          <p:nvPr/>
        </p:nvPicPr>
        <p:blipFill>
          <a:blip r:embed="rId1"/>
          <a:srcRect l="0" t="0" r="5039" b="0"/>
          <a:stretch/>
        </p:blipFill>
        <p:spPr>
          <a:xfrm rot="1156800">
            <a:off x="7768800" y="2452680"/>
            <a:ext cx="882720" cy="10065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91" descr=""/>
          <p:cNvPicPr/>
          <p:nvPr/>
        </p:nvPicPr>
        <p:blipFill>
          <a:blip r:embed="rId2"/>
          <a:srcRect l="0" t="0" r="5039" b="0"/>
          <a:stretch/>
        </p:blipFill>
        <p:spPr>
          <a:xfrm rot="874200">
            <a:off x="7515000" y="2487240"/>
            <a:ext cx="917280" cy="10256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92" descr="reach1"/>
          <p:cNvPicPr/>
          <p:nvPr/>
        </p:nvPicPr>
        <p:blipFill>
          <a:blip r:embed="rId3"/>
          <a:stretch/>
        </p:blipFill>
        <p:spPr>
          <a:xfrm>
            <a:off x="7253280" y="2549520"/>
            <a:ext cx="10587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0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C791-A55D-4CE2-A800-94BED3AE3480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1" name="Rectangle 2"/>
          <p:cNvSpPr/>
          <p:nvPr/>
        </p:nvSpPr>
        <p:spPr>
          <a:xfrm>
            <a:off x="566640" y="1701720"/>
            <a:ext cx="7962840" cy="42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German objectives for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Promote the safe handling of chemical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nsure environmental and human health standard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ducate dutyholders and provide guidanc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Provide a level playing field on the EU marke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    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Need to be ensured at national </a:t>
            </a:r>
            <a:r>
              <a:rPr b="1" lang="de-DE" sz="2400" spc="-1" strike="noStrike" u="sng">
                <a:solidFill>
                  <a:srgbClr val="2e59a6"/>
                </a:solidFill>
                <a:uFillTx/>
                <a:latin typeface="Arial"/>
              </a:rPr>
              <a:t>and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EU level !!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 at national and EU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AutoShape 9"/>
          <p:cNvSpPr/>
          <p:nvPr/>
        </p:nvSpPr>
        <p:spPr>
          <a:xfrm rot="10800000">
            <a:off x="928440" y="5241600"/>
            <a:ext cx="377640" cy="228600"/>
          </a:xfrm>
          <a:prstGeom prst="leftArrow">
            <a:avLst>
              <a:gd name="adj1" fmla="val 50009"/>
              <a:gd name="adj2" fmla="val 58996"/>
            </a:avLst>
          </a:prstGeom>
          <a:solidFill>
            <a:srgbClr val="587ab8"/>
          </a:solidFill>
          <a:ln w="936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36,-58,32)"/>
                                      </p:to>
                                    </p:set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36,-58,32)"/>
                                      </p:to>
                                    </p:set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5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7156-C959-4E80-8A13-473991E808E9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6" name="Rectangle 5"/>
          <p:cNvSpPr/>
          <p:nvPr/>
        </p:nvSpPr>
        <p:spPr>
          <a:xfrm>
            <a:off x="723960" y="1504800"/>
            <a:ext cx="809604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Forum for Exchange of Information on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Composi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Body of the European Chemicals Agency, ECHA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One member from each of the 27 EU Member Stat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+ non-voting members from the European Commiss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Harmonization of enforcement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of REACH, CLP and PIC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in the EU Member Stat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The Foru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4" descr=""/>
          <p:cNvPicPr/>
          <p:nvPr/>
        </p:nvPicPr>
        <p:blipFill>
          <a:blip r:embed="rId1"/>
          <a:stretch/>
        </p:blipFill>
        <p:spPr>
          <a:xfrm>
            <a:off x="5829480" y="4805280"/>
            <a:ext cx="2701800" cy="1089000"/>
          </a:xfrm>
          <a:prstGeom prst="rect">
            <a:avLst/>
          </a:prstGeom>
          <a:ln w="12600">
            <a:solidFill>
              <a:srgbClr val="2e59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0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93BE-5238-4010-B582-316986C4C8DD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596880" y="1676520"/>
            <a:ext cx="8015400" cy="36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Different legal systems in 27 Member Stat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Varying organizational structur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ompetencies within different authorities (MSCA / NEA*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National systems of sanctions / penalti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219240" y="4957920"/>
            <a:ext cx="8451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Harmonized approach to enforcement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e59a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= comparable enforcement, </a:t>
            </a:r>
            <a:r>
              <a:rPr b="1" lang="de-DE" sz="2400" spc="-1" strike="noStrike" u="sng">
                <a:solidFill>
                  <a:srgbClr val="2e59a6"/>
                </a:solidFill>
                <a:uFillTx/>
                <a:latin typeface="Arial"/>
              </a:rPr>
              <a:t>not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uniform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rmonization of Enforcement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AutoShape 9"/>
          <p:cNvSpPr/>
          <p:nvPr/>
        </p:nvSpPr>
        <p:spPr>
          <a:xfrm>
            <a:off x="1697040" y="5094360"/>
            <a:ext cx="277920" cy="152280"/>
          </a:xfrm>
          <a:prstGeom prst="rightArrow">
            <a:avLst>
              <a:gd name="adj1" fmla="val 64963"/>
              <a:gd name="adj2" fmla="val 45846"/>
            </a:avLst>
          </a:prstGeom>
          <a:solidFill>
            <a:srgbClr val="587ab8"/>
          </a:solidFill>
          <a:ln w="936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675" name="Picture 12" descr=""/>
          <p:cNvPicPr/>
          <p:nvPr/>
        </p:nvPicPr>
        <p:blipFill>
          <a:blip r:embed="rId1"/>
          <a:stretch/>
        </p:blipFill>
        <p:spPr>
          <a:xfrm>
            <a:off x="6956280" y="1793880"/>
            <a:ext cx="1857600" cy="118116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7"/>
          <p:cNvSpPr/>
          <p:nvPr/>
        </p:nvSpPr>
        <p:spPr>
          <a:xfrm>
            <a:off x="3102120" y="3803760"/>
            <a:ext cx="5446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2e59a6"/>
                </a:solidFill>
                <a:latin typeface="Arial"/>
              </a:rPr>
              <a:t>*MSCA = Member State Competent Authority, NEA = National Enforcement Authority</a:t>
            </a:r>
            <a:endParaRPr b="0" lang="en-US" sz="11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8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8E20-7792-4A01-9910-BE83CE88777C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731880" y="1463760"/>
            <a:ext cx="801540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Practical solution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Development of best practice document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Exchange of inspector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Harmonized enforcement project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Annual “Train-the-Trainers” event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Manual with “practical cases” and Forum conclusion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ommon Information Exchange System (IT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rmonization of Enforcement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Picture 8" descr="EU_flags"/>
          <p:cNvPicPr/>
          <p:nvPr/>
        </p:nvPicPr>
        <p:blipFill>
          <a:blip r:embed="rId1"/>
          <a:srcRect l="0" t="52906" r="0" b="17276"/>
          <a:stretch/>
        </p:blipFill>
        <p:spPr>
          <a:xfrm>
            <a:off x="1193760" y="5218200"/>
            <a:ext cx="3583080" cy="7286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1" descr="Flag_of_Europe"/>
          <p:cNvPicPr/>
          <p:nvPr/>
        </p:nvPicPr>
        <p:blipFill>
          <a:blip r:embed="rId2"/>
          <a:stretch/>
        </p:blipFill>
        <p:spPr>
          <a:xfrm>
            <a:off x="6178680" y="5267160"/>
            <a:ext cx="1047600" cy="698760"/>
          </a:xfrm>
          <a:prstGeom prst="rect">
            <a:avLst/>
          </a:prstGeom>
          <a:ln w="0">
            <a:noFill/>
          </a:ln>
        </p:spPr>
      </p:pic>
      <p:sp>
        <p:nvSpPr>
          <p:cNvPr id="683" name="AutoShape 12"/>
          <p:cNvSpPr/>
          <p:nvPr/>
        </p:nvSpPr>
        <p:spPr>
          <a:xfrm>
            <a:off x="5224320" y="5491080"/>
            <a:ext cx="406440" cy="217440"/>
          </a:xfrm>
          <a:prstGeom prst="rightArrow">
            <a:avLst>
              <a:gd name="adj1" fmla="val 50000"/>
              <a:gd name="adj2" fmla="val 46730"/>
            </a:avLst>
          </a:prstGeom>
          <a:solidFill>
            <a:srgbClr val="587ab8"/>
          </a:solidFill>
          <a:ln w="936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Espaço Reservado para Rodapé 3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85" name="Espaço Reservado para Número de Slide 4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C784-45CC-4BBC-ABF3-74161F59AD11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86" name="AutoShape 2"/>
          <p:cNvSpPr/>
          <p:nvPr/>
        </p:nvSpPr>
        <p:spPr>
          <a:xfrm>
            <a:off x="476280" y="371520"/>
            <a:ext cx="8292960" cy="2336760"/>
          </a:xfrm>
          <a:prstGeom prst="roundRect">
            <a:avLst>
              <a:gd name="adj" fmla="val 6181"/>
            </a:avLst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518040" y="1070640"/>
            <a:ext cx="8223840" cy="775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Thank you for listening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AutoShape 4"/>
          <p:cNvSpPr/>
          <p:nvPr/>
        </p:nvSpPr>
        <p:spPr>
          <a:xfrm>
            <a:off x="3240000" y="2911320"/>
            <a:ext cx="5505480" cy="2536920"/>
          </a:xfrm>
          <a:prstGeom prst="roundRect">
            <a:avLst>
              <a:gd name="adj" fmla="val 6181"/>
            </a:avLst>
          </a:prstGeom>
          <a:noFill/>
          <a:ln w="38160">
            <a:solidFill>
              <a:srgbClr val="587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3560760" y="3009960"/>
            <a:ext cx="50371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2e59a6"/>
                </a:solidFill>
                <a:latin typeface="Arial"/>
              </a:rPr>
              <a:t>Katja vom Hof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Federal Institute for Occupational Safety and Health (BAuA)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Federal Office for Chemical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Friedrich-Henkel-Weg 1-25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D-44149 Dortmu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ChemG@baua.bund.d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Further Information:  </a:t>
            </a:r>
            <a:r>
              <a:rPr b="1" lang="de-DE" sz="1400" spc="-1" strike="noStrike">
                <a:solidFill>
                  <a:srgbClr val="2e59a6"/>
                </a:solidFill>
                <a:latin typeface="Arial"/>
              </a:rPr>
              <a:t>www.baua.d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94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6F34-92B9-49C9-83E5-B44F910C634C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701640" y="1577880"/>
            <a:ext cx="771228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National Activities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Organizational Structur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National Strategies for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Enforcement Activities in Germany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International Activiti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e Forum of the European Chemicals Agency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Harmonization of Enforcement Activiti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5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5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98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86B0-5362-40A8-AE3D-5F742094F4AA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17400" y="1519200"/>
            <a:ext cx="80964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16 Federal Stat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-  responsible for the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of Chemicals Legisla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according to the German Chemicals Ac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-  independent with regard to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nforcement structures, strategies and prioriti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-  different geographic, industrial and economic situation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-   Northrhine-Westphalia:  17,8 million inhabitants, focus: manufacture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-   Hamburg:  500.000 inhabitants, focus: import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: Organizational Stru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16"/>
          <p:cNvSpPr/>
          <p:nvPr/>
        </p:nvSpPr>
        <p:spPr>
          <a:xfrm rot="5400000">
            <a:off x="8064000" y="3394080"/>
            <a:ext cx="100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2e59a6"/>
                </a:solidFill>
                <a:latin typeface="Arial"/>
              </a:rPr>
              <a:t>Map: NordNordWest</a:t>
            </a:r>
            <a:endParaRPr b="0" lang="en-US" sz="6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602" name="Picture 15" descr=""/>
          <p:cNvPicPr/>
          <p:nvPr/>
        </p:nvPicPr>
        <p:blipFill>
          <a:blip r:embed="rId1"/>
          <a:stretch/>
        </p:blipFill>
        <p:spPr>
          <a:xfrm>
            <a:off x="6719760" y="1606680"/>
            <a:ext cx="17766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04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3ACB-41CD-4603-9E6D-D8495C4F72A9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593280" y="1528560"/>
            <a:ext cx="789948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Tasks of the Federal Stat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-   Organization of </a:t>
            </a:r>
            <a:r>
              <a:rPr b="0" lang="en-US" sz="2400" spc="-1" strike="noStrike" u="sng">
                <a:solidFill>
                  <a:srgbClr val="2e59a6"/>
                </a:solidFill>
                <a:uFillTx/>
                <a:latin typeface="Arial"/>
              </a:rPr>
              <a:t>nat’l enforcement authorities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(NEAs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at relevant levels (ministry / regional / district level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-   Provision of personal and financial </a:t>
            </a:r>
            <a:r>
              <a:rPr b="0" lang="en-US" sz="2400" spc="-1" strike="noStrike" u="sng">
                <a:solidFill>
                  <a:srgbClr val="2e59a6"/>
                </a:solidFill>
                <a:uFillTx/>
                <a:latin typeface="Arial"/>
              </a:rPr>
              <a:t>resourc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-   </a:t>
            </a:r>
            <a:r>
              <a:rPr b="0" lang="en-US" sz="2400" spc="-1" strike="noStrike" u="sng">
                <a:solidFill>
                  <a:srgbClr val="2e59a6"/>
                </a:solidFill>
                <a:uFillTx/>
                <a:latin typeface="Arial"/>
              </a:rPr>
              <a:t>Education and training</a:t>
            </a: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of enforcer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qualification of inspector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-   </a:t>
            </a:r>
            <a:r>
              <a:rPr b="0" lang="en-US" sz="2400" spc="-1" strike="noStrike" u="sng">
                <a:solidFill>
                  <a:srgbClr val="2e59a6"/>
                </a:solidFill>
                <a:uFillTx/>
                <a:latin typeface="Arial"/>
              </a:rPr>
              <a:t>Information and guidance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for dutyholders (optional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orcement: Organizational Stru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711360" y="560556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  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Cooperation and harmonization needed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08" name="AutoShape 7"/>
          <p:cNvSpPr/>
          <p:nvPr/>
        </p:nvSpPr>
        <p:spPr>
          <a:xfrm>
            <a:off x="1320840" y="5737320"/>
            <a:ext cx="326880" cy="217440"/>
          </a:xfrm>
          <a:prstGeom prst="rightArrow">
            <a:avLst>
              <a:gd name="adj1" fmla="val 50000"/>
              <a:gd name="adj2" fmla="val 37583"/>
            </a:avLst>
          </a:prstGeom>
          <a:solidFill>
            <a:srgbClr val="587ab8"/>
          </a:solidFill>
          <a:ln w="936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0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9726-C1A4-4419-BD42-6C51A660BC10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712800" y="1465200"/>
            <a:ext cx="786600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Harmonization: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Working Committee of the Federal Government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and the States on Chemical Safety  (BLAC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xchange of informa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Coordination of joint project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Awareness raising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Development of a common enforcement strategy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: Organizational Stru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7" descr=""/>
          <p:cNvPicPr/>
          <p:nvPr/>
        </p:nvPicPr>
        <p:blipFill>
          <a:blip r:embed="rId1"/>
          <a:srcRect l="0" t="0" r="6301" b="0"/>
          <a:stretch/>
        </p:blipFill>
        <p:spPr>
          <a:xfrm>
            <a:off x="6748560" y="3483000"/>
            <a:ext cx="13366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5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2CAF-A9ED-4006-8390-8A89104967C3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:  Strateg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612720" y="1590840"/>
            <a:ext cx="799308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Strategy for the Market Surveillance of Chemical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Developed and revised by BLAC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Additional strategies for each Federal State –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reflect the specific conditions in each stat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Framework strategies: leave room for additiona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inspections triggered by up-to-date informa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Strategies are regularly revised and adapted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1119240" y="5357880"/>
            <a:ext cx="326880" cy="217440"/>
          </a:xfrm>
          <a:prstGeom prst="rightArrow">
            <a:avLst>
              <a:gd name="adj1" fmla="val 50000"/>
              <a:gd name="adj2" fmla="val 37583"/>
            </a:avLst>
          </a:prstGeom>
          <a:solidFill>
            <a:srgbClr val="587ab8"/>
          </a:solidFill>
          <a:ln w="936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619" name="Picture 7" descr=""/>
          <p:cNvPicPr/>
          <p:nvPr/>
        </p:nvPicPr>
        <p:blipFill>
          <a:blip r:embed="rId1"/>
          <a:srcRect l="0" t="0" r="3151" b="0"/>
          <a:stretch/>
        </p:blipFill>
        <p:spPr>
          <a:xfrm>
            <a:off x="7394400" y="2305080"/>
            <a:ext cx="125892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6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1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BE50-865E-4B65-84AB-734E42C2CCFC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574560" y="1481040"/>
            <a:ext cx="796284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Promote the safe 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handling of chemical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nsure environmental and human health standard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ducate dutyholders and provide guidanc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Provide a level playing field on the EU marke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:  Strateg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Picture 6" descr="formulator"/>
          <p:cNvPicPr/>
          <p:nvPr/>
        </p:nvPicPr>
        <p:blipFill>
          <a:blip r:embed="rId1"/>
          <a:srcRect l="0" t="6121" r="5968" b="3060"/>
          <a:stretch/>
        </p:blipFill>
        <p:spPr>
          <a:xfrm>
            <a:off x="4110120" y="1519200"/>
            <a:ext cx="4195800" cy="2633760"/>
          </a:xfrm>
          <a:prstGeom prst="rect">
            <a:avLst/>
          </a:prstGeom>
          <a:ln w="9360">
            <a:solidFill>
              <a:srgbClr val="2e59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6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6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0912-14A8-429F-B3EC-790812A5893C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704880" y="1693800"/>
            <a:ext cx="7907400" cy="43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Inspection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= desktop studies + company visits, if necessary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Active vs Reactive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Active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2e59a6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= enforcement authority actively </a:t>
            </a:r>
            <a:r>
              <a:rPr b="0" lang="de-DE" sz="2400" spc="-1" strike="noStrike" u="sng">
                <a:solidFill>
                  <a:srgbClr val="2e59a6"/>
                </a:solidFill>
                <a:uFillTx/>
                <a:latin typeface="Arial"/>
              </a:rPr>
              <a:t>decides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to enforc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Reactive Enforcement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= enforcement authority </a:t>
            </a:r>
            <a:r>
              <a:rPr b="0" lang="de-DE" sz="2400" spc="-1" strike="noStrike" u="sng">
                <a:solidFill>
                  <a:srgbClr val="2e59a6"/>
                </a:solidFill>
                <a:uFillTx/>
                <a:latin typeface="Arial"/>
              </a:rPr>
              <a:t>reacts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to a certain situa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 Activities in Germa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0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6D9C-1786-49A4-8B70-8E93F0792281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1" name="Rectangle 2"/>
          <p:cNvSpPr/>
          <p:nvPr/>
        </p:nvSpPr>
        <p:spPr>
          <a:xfrm>
            <a:off x="619200" y="1701720"/>
            <a:ext cx="803592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Inspections  –  Active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based on risk-related market surveillanc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often in the course of specific inspection projects: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focus on specific substances and / or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2e59a6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product-types (PAHs in tyres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additionally: information / awareness-raising campaign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 Activities in Germa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3" name="Picture 17" descr="Used_tyres_(2)_-_geograph"/>
          <p:cNvPicPr/>
          <p:nvPr/>
        </p:nvPicPr>
        <p:blipFill>
          <a:blip r:embed="rId1"/>
          <a:stretch/>
        </p:blipFill>
        <p:spPr>
          <a:xfrm>
            <a:off x="6278400" y="3684600"/>
            <a:ext cx="2090880" cy="139068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8"/>
          <p:cNvSpPr/>
          <p:nvPr/>
        </p:nvSpPr>
        <p:spPr>
          <a:xfrm rot="5400000">
            <a:off x="8099280" y="4772160"/>
            <a:ext cx="71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2e59a6"/>
                </a:solidFill>
                <a:latin typeface="Arial"/>
              </a:rPr>
              <a:t>Source: Ukko</a:t>
            </a:r>
            <a:endParaRPr b="0" lang="en-US" sz="6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6:34:44Z</dcterms:created>
  <dc:creator>d1224</dc:creator>
  <dc:description/>
  <dc:language>en-US</dc:language>
  <cp:lastModifiedBy>Ibama</cp:lastModifiedBy>
  <cp:lastPrinted>2004-05-03T19:40:53Z</cp:lastPrinted>
  <dcterms:modified xsi:type="dcterms:W3CDTF">2018-08-16T17:22:06Z</dcterms:modified>
  <cp:revision>105</cp:revision>
  <dc:subject/>
  <dc:title>Folie 1</dc:title>
</cp:coreProperties>
</file>